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AB89-F80D-4A92-9468-0471E40BA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7E74-A8D3-4AC6-B967-9A56FEA160D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7617-07E0-455E-862F-54D094D7854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5466-CAB3-4FDF-9FC5-D9D8119DDA5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6C43-C8BA-45DA-B72E-5EA4429D8BF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5CB6-3FCD-4C73-89F1-7EE4A528CAD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6D62-4795-4B83-ACCF-EEF41848D35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566D-1B30-4E95-A4E4-20062AC6401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1A90-D4BF-4A4D-B2CD-11D172E8669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916E-7F95-4C42-B75E-0CFBF6CB340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6537-9684-4069-9E16-CD6B39A3001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26DF-0553-427A-A462-5CCFEC5D642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04C3-229D-4A3C-8ACD-B398026EC50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70A7-E398-4132-BF89-705DFF49C34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ED7F-7726-4432-95FD-27AC451B120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9A7F-81AF-484B-B4AF-90768B86833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5764-2788-48BC-A571-7B7FC983090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EDB9-07F5-4F77-B6A4-57580DE06BC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E5F6-CE23-4947-B130-ABB31325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E52-35CF-4C28-ACC2-899290B2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A6D-8DB3-476C-B4EE-BE49BDC1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DA2-687A-4936-A6CF-7E1B9446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AF94-2A2F-4F77-AE60-173D084E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9064-3906-4C96-9B2E-ED5966EE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0166-8909-4653-8115-B421A3AA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FC7C-4F36-4462-A70B-972404CA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AF6E-1307-4FFA-8F04-9C8C9E2A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C4BE-5BC5-4B92-9EF3-D349362B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4E2A-F84F-4ACC-8808-210DFC8E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D14-7B70-4BEC-BB8F-D44D608F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EDF5-771D-4865-8BCF-A3337568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3C1D-DFC9-4E9B-9FB9-0CDCEA52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ED87-18B8-4E29-B172-7EF24FFE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9B1E-A960-4E9C-88D0-9C0A7309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0094-73C7-4362-B99E-31553641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08E3-CC4C-49CF-A4FE-AD4D5A10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8FDD-88C2-4A14-AEC6-496C0016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540-800F-44CA-AC9B-0A244F3F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7B0-CCBE-4C80-974C-93CC27D6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8A1-AD65-48C3-8CAD-9870597A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354-05CA-4887-97E2-5F5326B3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CFA-A867-4FD1-9E54-9418C870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B421-22D5-4D06-AAFF-5939C2FC0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9814-196F-4956-AE9A-E79B672291AE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lligence Tes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6" name="Picture 4" descr="BS00559_"/>
          <p:cNvPicPr/>
          <p:nvPr/>
        </p:nvPicPr>
        <p:blipFill>
          <a:blip r:embed="rId1"/>
          <a:stretch/>
        </p:blipFill>
        <p:spPr>
          <a:xfrm>
            <a:off x="2362320" y="3124080"/>
            <a:ext cx="459576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blems with IQ Tests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continue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tent: measures narrow set of skills ex. Verbal understanding, common sense scholastic aptitu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asures ability to take tes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criminates against minorities (not culture-fair test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of scores as labe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do you think?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anyone knows what it is like to participate in a group test…it is you!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were some of the comments you formed or experiences you had regarding the SATs? PSSAs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makes a good test?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0" name="Picture 2" descr="http://www.fotosearch.com/bthumb/UNC/UNC265/u19193446.jpg"/>
          <p:cNvPicPr/>
          <p:nvPr/>
        </p:nvPicPr>
        <p:blipFill>
          <a:blip r:embed="rId1"/>
          <a:stretch/>
        </p:blipFill>
        <p:spPr>
          <a:xfrm>
            <a:off x="2286000" y="16765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liability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bility of a test to produce consistent and stable result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I gave you a test on Memory today and you score a 80% and I gave you a similar test (measuring same skills) tomorrow, would you get about 80%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do you know if a test is reliable?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ive the test. Then, after a short period of time, give the test again to the same people. If the scores are within points, it’s reliable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re there serious problems determining test reliability?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you give the same test twice, people might simply remember the answer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 fix this: design two different tests, testing the same skills/abilities and use them interchangeably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alid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bility of a test to measure what it has been designed to measure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re are two types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wo types of validity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tent Validity: whether the test contains an adequate sample of the skills/knowledge that it is supposed to be measuring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iterion Validity: Refers to the relationship between test scores and independent measures of whatever the test is designed to measure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Example: students who do well academically should also do well on SA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nford-Binet Intelligence Test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36800"/>
            <a:ext cx="411480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0 tests of increasing difficult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iven to children to measure relative intellig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ares Chronological (actual age) and Mental 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9" name="Picture 9" descr="Alfred Binet"/>
          <p:cNvPicPr/>
          <p:nvPr/>
        </p:nvPicPr>
        <p:blipFill>
          <a:blip r:embed="rId4"/>
          <a:stretch/>
        </p:blipFill>
        <p:spPr>
          <a:xfrm>
            <a:off x="5257800" y="990720"/>
            <a:ext cx="32511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Stanford-Binet has been changed 4 ti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 update the terms and word 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 replace questions biased toward gender or location in the count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972 To restandarize scores to include non-whi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985 To make it less gender and culturally biased and identify specific learning disabiliti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does it d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oal:  devise impartial test to assess children’s intellectual progress in scho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rategy: Systematically develop sets of questions and problems to assess what children of different ages should know and be able to d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does it Mean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hronological age (CA):  actual 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ntal age (MA): assumed to reflect an orderly process of intellectual growth common in all childr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MA=C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verage intellige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MA&gt;C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bove average/Gift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MA&lt;C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low average/Retard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birth of IQ: 1916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wis Terman of Stanford University adapts Binet’s test and coins the term Intelligence Quotient (IQ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stablishes a numerical score of 100 as aver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 get your IQ,  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M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    X 1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3"/>
          <p:cNvGraphicFramePr/>
          <p:nvPr/>
        </p:nvGraphicFramePr>
        <p:xfrm>
          <a:off x="228600" y="914400"/>
          <a:ext cx="891540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3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91540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Object 5"/>
          <p:cNvGraphicFramePr/>
          <p:nvPr/>
        </p:nvGraphicFramePr>
        <p:xfrm>
          <a:off x="304920" y="685800"/>
          <a:ext cx="81532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81532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Group Tests, Examples &amp; Problem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Definition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-One examiner administers it to many peo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Examples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T, ACT, G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Goals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elps with time and expense of individual tests and examiner bi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61760" y="4038480"/>
            <a:ext cx="7848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Problem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-Test Anxie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-Intimid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-Generaliz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8:20:24Z</dcterms:created>
  <dc:creator>amiller</dc:creator>
  <dc:description/>
  <dc:language>en-US</dc:language>
  <cp:lastModifiedBy>SASD User</cp:lastModifiedBy>
  <dcterms:modified xsi:type="dcterms:W3CDTF">2011-03-16T18:45:45Z</dcterms:modified>
  <cp:revision>20</cp:revision>
  <dc:subject/>
  <dc:title>        Intelligence Testing</dc:title>
</cp:coreProperties>
</file>